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AF6-A816-434D-9C5B-AFE8EFE6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F14-ABE9-46E4-B3D6-381C5CDD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C70-DC57-4FB3-A299-BE887AD7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A5D-A869-4364-9D29-5F2DF9EE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651-9462-4AD2-895A-2028D63E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B923-E2D4-4A8D-9F04-D0C37C22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AE2-E981-465B-A2EB-63B64FE3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FF87-BDB6-44B3-AE17-F2375936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C2B9-9173-40F1-8AAA-A6F5315C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139-BF3E-47EB-B03A-8B222208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CD4-6FA2-48DF-AF65-51E3DC72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6D0-F593-4CC7-854F-81BE72ED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151D-25BC-426B-B281-991F1674B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1357200" cy="1814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666880" y="2514600"/>
            <a:ext cx="3505320" cy="3048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1243080" cy="181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6858000" y="4419720"/>
            <a:ext cx="2165400" cy="213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7162920" y="2514600"/>
            <a:ext cx="1600200" cy="1814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066680" y="5943600"/>
            <a:ext cx="570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Heavy Heap"/>
              </a:rPr>
              <a:t>RECYCLE 2 HELP THE PLANET!!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Heavy Heap"/>
              <a:ea typeface="Heavy Heap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304920"/>
            <a:ext cx="2514600" cy="64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avy Heap"/>
              </a:rPr>
              <a:t>THE 5C RECYCLING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71600" y="914400"/>
            <a:ext cx="7543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Heavy Heap"/>
              </a:rPr>
              <a:t>RECYCLE WATER BOTTLES, MILK CARTONS, AND MUCH MORE!!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Heavy Heap"/>
              <a:ea typeface="Heavy Heap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4:46:05Z</dcterms:created>
  <dc:creator>mes5c</dc:creator>
  <dc:description/>
  <dc:language>en-US</dc:language>
  <cp:lastModifiedBy>mes5c</cp:lastModifiedBy>
  <dcterms:modified xsi:type="dcterms:W3CDTF">2011-02-03T13:15:36Z</dcterms:modified>
  <cp:revision>4</cp:revision>
  <dc:subject/>
  <dc:title>Slide 1</dc:title>
</cp:coreProperties>
</file>